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6B81-100B-4E66-8EE2-0DA201100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4DE3-2938-4D59-BA56-763474FE7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C7F7-F9AB-47F8-9015-39AACB741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688C-8A7B-4CA7-9518-178C6CF63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4260-2BAE-40FD-9AF3-D78A54A95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3EAC-E18C-4CC8-AD4F-B7868DA73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A8A4-6C5C-47FE-8526-C7C49A55D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C5D9-5D30-4E8C-83AA-0EBD434FC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DD08-FB31-4718-AB86-1D59BBB1E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574E-CA05-4B19-9294-A1F4C780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794F-61BD-4F75-B5F7-B8B35F34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8C90-6651-4981-BDA9-E5157356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57553-C254-404B-8D23-FC8429EE4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635280" y="4437000"/>
            <a:ext cx="5508720" cy="144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000" spc="-1" strike="noStrike">
                <a:solidFill>
                  <a:srgbClr val="ffffff"/>
                </a:solidFill>
                <a:latin typeface="Arial"/>
              </a:rPr>
              <a:t>Gambling</a:t>
            </a:r>
            <a:r>
              <a:rPr b="0" lang="en-NZ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119200" y="5921280"/>
            <a:ext cx="40244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By Elliot C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47640" y="17640"/>
            <a:ext cx="519912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egative consumption externa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-1307" t="12543" r="11394" b="17113"/>
          <a:stretch/>
        </p:blipFill>
        <p:spPr>
          <a:xfrm>
            <a:off x="1403280" y="1700280"/>
            <a:ext cx="6048360" cy="4979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932360" y="4076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076640"/>
            <a:ext cx="576360" cy="576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3789360"/>
            <a:ext cx="287280" cy="360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40360" y="3933720"/>
            <a:ext cx="431640" cy="505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356000" y="3645000"/>
            <a:ext cx="216000" cy="215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427640" y="3573360"/>
            <a:ext cx="144360" cy="142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427640" y="2997360"/>
            <a:ext cx="2665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164360" y="2637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DW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Explan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re are man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gative consumption externality inclu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teal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Decrease standard of l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Loss of relationships (fami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auses a big deadweight l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Huge deb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4T03:59:23Z</dcterms:created>
  <dc:creator>Sami&amp;Ell</dc:creator>
  <dc:description/>
  <dc:language>en-US</dc:language>
  <cp:lastModifiedBy>Sami&amp;Ell</cp:lastModifiedBy>
  <dcterms:modified xsi:type="dcterms:W3CDTF">2008-07-29T06:40:44Z</dcterms:modified>
  <cp:revision>5</cp:revision>
  <dc:subject/>
  <dc:title>Gambling </dc:title>
</cp:coreProperties>
</file>